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91A-DFCC-416B-AD2D-2A4CD3D7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45E-471D-4156-B54E-46D36B3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06A-E3F6-440D-AFA5-872EEA48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4E4-6E36-4EBA-96C6-9E6C0995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2F3-D287-46AA-B5D0-9C3A37BF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CAA-E85F-4810-B36F-B5D8F120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361-2AB1-4078-B81C-420D9300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DC1-984D-4582-9650-28D1DDFD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ED1-4549-47E8-9680-5BD64B6E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971-1C62-45E2-BD0D-3C5B83D7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49F-1137-4606-8AF5-7DBFBE9A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F78-DE68-4091-A3D6-20E3698F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0C1-858C-414A-B4A9-CC2CE3689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rrierclinic.org/images/gift.jpg&amp;imgrefurl=http://www.carrierclinic.org/Gift/Default.aspx&amp;usg=__i6pswHzJPAxQ3wz1nRUH1jI4e8Q=&amp;h=565&amp;w=849&amp;sz=414&amp;hl=en&amp;start=3&amp;itbs=1&amp;tbnid=dUwryDud_W2ZdM:&amp;tbnh=96&amp;tbnw=145&amp;prev=/images%3Fq%3Dgift%26gbv%3D2%26hl%3D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s1.hubimg.com/u/295552_f520.jpg&amp;imgrefurl=http://hubpages.com/hub/unusual-fun-gifts&amp;usg=__3-Kw-Z8Lu9zd145Ns153Zzqv0jg=&amp;h=346&amp;w=520&amp;sz=47&amp;hl=en&amp;start=49&amp;itbs=1&amp;tbnid=15UTEKpWKbdGZM:&amp;tbnh=87&amp;tbnw=131&amp;prev=/images%3Fq%3DBoyfriend%2Band%2BGirlfriend%2Band%2BValentine%2527s%2BdAy%26gbv%3D2%26ndsp%3D20%26hl%3Den%26sa%3DN%26start%3D40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diegobacha.files.wordpress.com/2008/11/es-colorear-dibujos-imagenes-foto-pensar-p10044.jpg&amp;imgrefurl=http://diegobacha.wordpress.com/2008/11/13/el-ser-humano-mecanizado/&amp;usg=__H1PTeO1vzzomrfzubysP4Y9kGLc=&amp;h=875&amp;w=620&amp;sz=89&amp;hl=en&amp;start=1&amp;itbs=1&amp;tbnid=v1TrlMPth_wR0M:&amp;tbnh=146&amp;tbnw=103&amp;prev=/images%3Fq%3Dpensar%26gbv%3D2%26hl%3Den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/imgres?imgurl=http://aaroncano.files.wordpress.com/2009/06/comprar_-pagar.jpg&amp;imgrefurl=http://aaroncano.wordpress.com/2009/06/15/canal-9-y-air-france/&amp;usg=__zOft1aTQEv6YOLBOHHOV3gBNQqs=&amp;h=453&amp;w=600&amp;sz=29&amp;hl=en&amp;start=8&amp;itbs=1&amp;tbnid=9na6uqBUp9pKQM:&amp;tbnh=102&amp;tbnw=135&amp;prev=/images%3Fq%3DComprar%26gbv%3D2%26hl%3De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/imgres?imgurl=http://giftacar.org/images/land.jpg&amp;imgrefurl=http://giftacar.org/Boat_Donation.html&amp;usg=__tGbtqCAP8yeYKdDUt_JI1DVCO9g=&amp;h=276&amp;w=340&amp;sz=24&amp;hl=en&amp;start=16&amp;itbs=1&amp;tbnid=lyoGg5Kn6hDoHM:&amp;tbnh=97&amp;tbnw=119&amp;prev=/images%3Fq%3Ddonations%26gbv%3D2%26hl%3Den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google.com/imgres?imgurl=http://root.kevinmillsphoto.com/images/Eyes/original_eyes.jpg&amp;imgrefurl=http://www.kevinmillsphoto.com/2008/10/its-all-about-the-eyes/&amp;usg=__-T-Z_XQAvT2VeKEubawp7WxXh64=&amp;h=325&amp;w=700&amp;sz=42&amp;hl=en&amp;start=3&amp;itbs=1&amp;tbnid=VSibW7frDJJ0CM:&amp;tbnh=65&amp;tbnw=140&amp;prev=/images%3Fq%3Deyes%26gbv%3D2%26hl%3Den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google.com/imgres?imgurl=http://www.educima.com/salir-por-la-puerta-t13534.jpg&amp;imgrefurl=http://www.educima.com/es-colorear-dibujos-imagenes-foto-salir-por-la-puerta-i13534.html&amp;usg=__UfqK7QDNYiC_vfb9GP4CPhim7Ro=&amp;h=283&amp;w=283&amp;sz=12&amp;hl=en&amp;start=11&amp;um=1&amp;itbs=1&amp;tbnid=1GnNjFBHYioqiM:&amp;tbnh=114&amp;tbnw=114&amp;prev=/images%3Fq%3Dsalir%26hl%3Den%26um%3D1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google.com/imgres?imgurl=http://www.tutorialpark.com/wp-content/uploads/3/Hearts.jpg&amp;imgrefurl=http://www.tutorialpark.com/drawing-animated-heart/&amp;usg=__dlaOK-Cibg2W27JVgxyV88L93Yc=&amp;h=300&amp;w=300&amp;sz=8&amp;hl=en&amp;start=1&amp;um=1&amp;itbs=1&amp;tbnid=-1SuIRAHWR0dbM:&amp;tbnh=116&amp;tbnw=116&amp;prev=/images%3Fq%3Dhearts%26hl%3Den%26um%3D1" TargetMode="External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22860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a de San Valentí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j0078839"/>
          <p:cNvPicPr/>
          <p:nvPr/>
        </p:nvPicPr>
        <p:blipFill>
          <a:blip r:embed="rId1"/>
          <a:stretch/>
        </p:blipFill>
        <p:spPr>
          <a:xfrm>
            <a:off x="3048120" y="2209680"/>
            <a:ext cx="363852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if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838080"/>
            <a:ext cx="2760840" cy="1827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34960" y="380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l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295552_f5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228600"/>
            <a:ext cx="2770200" cy="1839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212360" y="228600"/>
            <a:ext cx="18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os No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l No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a No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" descr="shopping"/>
          <p:cNvPicPr/>
          <p:nvPr/>
        </p:nvPicPr>
        <p:blipFill>
          <a:blip r:embed="rId5"/>
          <a:stretch/>
        </p:blipFill>
        <p:spPr>
          <a:xfrm>
            <a:off x="6629400" y="2819520"/>
            <a:ext cx="2120760" cy="2033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6348600" y="236232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r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es-colorear-dibujos-imagenes-foto-pensar-p1004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895480"/>
            <a:ext cx="1306440" cy="1851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345240" y="28195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ensar (to th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comprar_-paga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86200" y="2666880"/>
            <a:ext cx="1285920" cy="971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3150360" y="2133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mprar (to bu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9" descr="land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86200" y="4724280"/>
            <a:ext cx="236700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0"/>
          <p:cNvSpPr/>
          <p:nvPr/>
        </p:nvSpPr>
        <p:spPr>
          <a:xfrm>
            <a:off x="3083040" y="380988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ar (to g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arle (To give some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2" descr="original_ey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553080" y="5562720"/>
            <a:ext cx="23227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6615360" y="495288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er (To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5" descr="salir-por-la-puerta-t1353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990720" y="5221440"/>
            <a:ext cx="1636560" cy="1636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1171440" y="46972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8" descr="Heart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971800" y="304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¡Exclamacion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¡Ay caramba!  Usually used when something not going great to express disgust/ disappointment etc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Díos mío!  OM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Qué bueno! How gre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Qué horrible!  How Horri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Qué terrible!  How Terri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Qué fantástico! How Fantast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¡Qué barbaro!  Different meanings - How crazy!  Outrageous!  Rude! Bold! Holy Cow!(Depends on context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¡Qué cheveré!  How Cool/ Awes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surprise1"/>
          <p:cNvPicPr/>
          <p:nvPr/>
        </p:nvPicPr>
        <p:blipFill>
          <a:blip r:embed="rId1"/>
          <a:stretch/>
        </p:blipFill>
        <p:spPr>
          <a:xfrm>
            <a:off x="6400800" y="2743200"/>
            <a:ext cx="1873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l in the blank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 ___________________________ (un nombre de un ch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 ___________________________ (un regalo muy espe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 ___________________________  (un nombre de una ch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 ___________________________  (nú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   ___________________________  (nú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.    ___________________________  (repite número uno)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.    ___________________________ (Un lugar para ir de comp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.  ___________________________  (sustantivo pl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.    ___________________________  (sustantivo pl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.  ___________________________ (sustantivo pl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.  ___________________________(sustantivo singular con artículo indefi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.    ___________________________ (exclamación en españ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3.  ___________________________  (repite número 3)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.    ___________________________ (emoción / singular y femi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.    ___________________________  (repite # 11 con un artículo definido) Same noun but with a definite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-5724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14 de febrero o El Día de San Valentín y un estudiante que se llama 1._____________ (un nombre de un chico) quiere comprarle 2.__________ (un regalo muy especial) a su novia.  Su novia se llama 3.___________ (un nombre de una chica).  El novio tiene 4.__________ (número) años y su novia tiene 5._________(número) años.  6.____________(Repite #1) va  de compras a 7._________________(un lugar para ir de compras).  Él ve 8.____________(sustantivo/plural), 9_______________sustantivo/plural), y  10.______________(sustantivo/plural) pero no ve el regalo perfecto.  De repente él ve 11________________(sustantivo/singular con artículo indefinido).  Él piensa 12. ___________(exclamación en español)......  Es perfecto!!!!  13. ___________(repite #3) va a estar muy 14.__________________(emoción/ singular y feminina).  El compra 15.______________(repite # 11) y sale para la casa para darle el regalo a su novi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MARTInkShape-677"/>
          <p:cNvSpPr/>
          <p:nvPr/>
        </p:nvSpPr>
        <p:spPr>
          <a:xfrm>
            <a:off x="563400" y="81612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176" h="4804">
                <a:moveTo>
                  <a:pt x="0" y="4803"/>
                </a:moveTo>
                <a:lnTo>
                  <a:pt x="1710" y="2930"/>
                </a:lnTo>
                <a:lnTo>
                  <a:pt x="617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y Boa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guntas y Respues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88800" y="26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2286000"/>
          <a:ext cx="8366400" cy="3840120"/>
        </p:xfrm>
        <a:graphic>
          <a:graphicData uri="http://schemas.openxmlformats.org/drawingml/2006/table">
            <a:tbl>
              <a:tblPr/>
              <a:tblGrid>
                <a:gridCol w="4030920"/>
                <a:gridCol w="4335480"/>
              </a:tblGrid>
              <a:tr h="1752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unta: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uesta: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unta: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uesta: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unta: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uesta: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unta: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uesta: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RS Q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ómo se llama el chic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íen es su nov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uántos años tiene el nov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uántos años tiene la nov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Adónde va el chic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ve en la tien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le compra para su nov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44:09Z</dcterms:created>
  <dc:creator>nfannoney</dc:creator>
  <dc:description/>
  <dc:language>en-US</dc:language>
  <cp:lastModifiedBy>Nicole Fannoney</cp:lastModifiedBy>
  <cp:lastPrinted>2014-02-13T16:59:31Z</cp:lastPrinted>
  <dcterms:modified xsi:type="dcterms:W3CDTF">2016-02-12T19:54:36Z</dcterms:modified>
  <cp:revision>14</cp:revision>
  <dc:subject/>
  <dc:title>El Día de San Valentí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3B0j-tMM5ngasEUQdc7nIKv-Aa9zvYTymqMvSm9Wpmk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4734370783556605584</vt:lpwstr>
  </property>
  <property fmtid="{D5CDD505-2E9C-101B-9397-08002B2CF9AE}" pid="6" name="Google.Documents.Tracking">
    <vt:lpwstr>true</vt:lpwstr>
  </property>
</Properties>
</file>